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7D0-9380-4A13-B34E-1B664475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8163-A725-4C8C-B6A4-141361A7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5393C-F491-4593-9692-0FCEA4C2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047DD-73B0-4D5F-8B49-EE5104BC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E30B8-8BB9-4275-88AD-5F32B16B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F681E-F973-47F9-A831-92B560FB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3428D-F974-4BA8-99D0-856AD552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6E95C-BD0C-449F-BC53-3FD046FC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00D5A-C660-4C9E-A3E7-D2C4F127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62B7C-20C7-44D0-A9B6-E6E1FE3F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900B2-B2AF-4E83-84BC-A8F149F1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1563B-C7F9-429F-95B4-75DF0883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F28-EF35-4BE3-AF56-14D9E286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C60A9-C202-4AD5-9019-C9F213D3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E3E52-C48F-43B6-B403-D6E600C5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3200A-0A52-4B23-9242-4A283B3F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DC5B3-BAAD-4E75-8998-24419A02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0C8B2-BDB2-48B8-A1B7-B1CB33F7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E9B20-30A4-4EB7-A745-D4048D95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A014C-00F4-4B80-BB71-4D03C64D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47A5B-057F-4096-93FE-B92B6DFB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E9495-CCB3-4559-A2F1-1EE870D8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9E448-36D0-4EA3-B3A2-80F9F93F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F82-BAF8-4B43-B3F6-87B5F0A9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0E52E-AC5C-4B74-A612-FEB1A48D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C01EC-1FE9-475B-85D8-4FD65FE2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0807C-795D-411A-8D70-D54623BC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FF1B1-070A-4EE4-AF2B-B17197AC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602E2-C744-440F-B6C8-EE6EBBD5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4255E-0983-42FA-BF5D-034A335B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B1868-F9A8-44F4-B8B5-BC64A91F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8ABE9-6462-4934-B880-0447181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DCF3A-6430-436F-8F42-A8D42DA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00A1D-C19E-4E4F-89BE-8BEE61E3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17C3-8293-4EED-A1BC-944C113E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E9060-F324-43AD-BEFA-AAF0717A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E3FEE-8FDD-481C-8FCD-55AB6AC0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24583-5204-4D82-8CBC-6C84FF9E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48326-8287-4F34-9FD2-06A69462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21C5A-EFE0-4C46-9523-72478484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294DAF-3186-4DD4-B2D6-C39D9784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F4555-9F77-459E-BEFC-1FB22305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DD0D0-F6E8-466B-B320-460E0A4D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64ECD-25B5-4409-97A9-C05E6CF9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D5699-E4DC-4680-AEBE-6C34021B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D771-C6E6-474B-96D4-5E15D052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79A39-9CCA-4409-B713-7791845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EC4C2-87DA-4454-8A0E-A9E4B7E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299A1-7981-4930-B593-F7D330F6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3341D-4671-4FFC-913F-24C9425F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4EA3E-4DA6-4C1B-93EE-49F9AC9A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0D3E-676F-448B-91A9-36D12212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7BCB-BBB4-4A01-B8A7-91423C44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0E11-2FB5-4B6F-90FE-B16A4FA5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7770-0CFD-420A-BF46-E5E2E93D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D565-FECD-42A3-A942-D41CD773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016-1A70-490C-869A-B53328E9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CAC0-0221-443D-B356-98DC99E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3968-63E9-4BC2-ACE3-0FCF5484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F5DE-3A95-4BAA-9998-B6DD130B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AB11-2F7B-47C5-AF6E-F3EB78EA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F818-2597-4B19-91DD-07E2FA2B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C2D4-B0FC-420C-8417-9A4F2A4E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1BA5-8CAE-44AB-95C5-A779D016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5C526-8CF3-4BDD-A71D-F3DBD85C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FD345-879F-4BAB-A307-EFA44013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F054-78FA-4BD2-B498-5BDB4B53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E96-D005-4F63-9C33-3B2F0B1F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16D1-B8DF-4767-9580-16AC2D16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4B06-DCB5-4646-8353-6D09B130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EF555-6492-4A93-9B5E-9C05F11A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8BB4-CB6B-4BA7-BC70-490F4E0A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046F6-6F73-4CD0-88E9-30E34BC3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0F9F-DAEF-41D6-B41A-46A01053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1DB57-E3FA-4671-A2C6-2055D83D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4943-57D1-47DC-930B-FD0D9221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DF2BC-CD4E-4C38-B8A0-2EF36EC1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5C7CD-3859-4CFD-89B7-E1F4913E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923-D95B-4A51-8BA1-8E648953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5BD9C-5E88-4908-852A-1C46B986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9B46-F6A2-4744-84E9-0046B907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C963-8669-4EE1-BCE3-48157A61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4C544-6042-4B2A-8771-7A8952F7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6B44-B37A-4E27-BE02-205E9EDF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B620-F673-42B5-BDFD-180E9581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BA2F-7F73-44A6-A277-A62A6847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4091-0435-416E-AD6C-93F53A52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5A441-0601-4773-8C08-51023BCB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A22F0-E878-49FB-A8DD-D0FA3091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509-6EAF-4E66-9B20-E4FAF6E4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24787-8DF1-4DF3-A676-3B01D46E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C8B1-6BF8-4941-AA03-078BF016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A865C-D180-4D22-A08A-68577DCD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9B81B-C649-4730-A92A-351BFE80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7418B-ED1D-4194-AD2E-476FF395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5D1AE-1D45-4758-A3ED-3727019A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61D95-68D8-4C77-8210-348C3831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E4870-639A-4750-95AB-BC626632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CF228-42C2-4B08-B407-0B42AD98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6562-0C8F-4052-83FD-964F0D1A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BC3-FCAF-4ADC-8A11-6381F75F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4D557-7C05-4074-B238-620F2BEE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BAC36-F568-415E-8D90-EB39B324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E653F-F41D-4176-AE18-F5C39D39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D4992-DEBA-40D6-9D77-E9855A3D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51F17-B2BC-4D13-8F8F-E8161433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37590-1DBD-49F3-8DEC-ECFDE926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16570-A99B-4748-B47D-8C79308C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7D4EE-8BA0-4865-B699-8059DD38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0EFE2-3E8C-4D06-A275-6C0C5C67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040ED-2F1C-471B-8D1D-DA948417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597-7579-41AB-841A-F763E355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1B98F-6F9A-475F-AB82-87DFDC9E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07E7B-1A1F-4443-B831-DF50D754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AAE4A-1FA6-4A87-920C-D50BA518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D3C08-986C-4043-9A5A-EBAD5DC3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D877F-422F-4572-96A9-D0CE40E8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C166D-BFB2-4287-89BA-A4516227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96033-88C2-4673-A719-3D7761A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0308F-CE38-4418-8759-3A25B40A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CE494-197A-4BD6-BBB0-3F88FD2A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E3E4D-E8E1-4414-AF10-7A0CAF30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0B4-D04A-49B3-B34C-26E83F7D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79CFD-A2D3-4BF7-9ED2-5C1D39F9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DD928-C061-4399-9EBD-35A4BF4C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82BA9-3BD2-437C-AF11-7FFB76D9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8510F-BFEB-45CC-A46B-99AF2461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E6038-E190-46E5-9444-9685BDAF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7B3FB-87F3-4411-80BC-6FD9BB6C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84EC4-8332-44B8-A5CE-DE76142C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5B74-154C-4536-9327-67352EBA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4DF9E-020A-41A6-AC57-F8B4D122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CDD32-FE3E-4730-98B9-E8584EE8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E01-7588-4D03-B8BC-D477E82D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F93D6-B978-4F1D-A237-F6689BF4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86525-D7F4-4F13-8934-3360B9BE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488D2-E48E-44C8-A0F7-3C272208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D1875-0883-4360-956A-C9B4735F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6CD55-B084-4A94-8421-075F568F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76648-CAF2-42F3-8A08-DB72A90C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D470D-7F86-4CED-85AA-56AE9E43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0E5CC-79E9-4789-AB69-6997BE16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826FA-6BA6-4BB8-8F8E-381F2627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0DC0D-0136-4070-8F2D-0AA71AF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AD2F-5662-4D96-8A0D-4DF416E625D9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3A12-3F55-42BD-99E9-324550C6656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2C8C-6867-4CD6-87CD-A442B40A6E52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E2EF-C6BC-40DF-9FE8-6BAB84BF2FD7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B772-B0FD-490A-B4C5-C3417A79AA3A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8BE0-6E24-4CD1-BC65-EB734F08DB6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543B-11BF-4D2F-99DE-A8670AABCB9F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DF60-B55F-43BF-A790-B8B04AD074BF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58B5-C70F-4086-BFBA-0900A7DAA34C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5646-53CA-4757-BFD6-603CFFE2152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0CD6-0C31-464C-93D2-71D3DC1D22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53F2-39A9-47E3-891C-D3AFB24F844E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Investigation of Tribological and Mechanical properties of Metal Bearings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914400" y="1523880"/>
          <a:ext cx="6858000" cy="1177920"/>
        </p:xfrm>
        <a:graphic>
          <a:graphicData uri="http://schemas.openxmlformats.org/drawingml/2006/table">
            <a:tbl>
              <a:tblPr/>
              <a:tblGrid>
                <a:gridCol w="1170000"/>
                <a:gridCol w="708120"/>
                <a:gridCol w="1224000"/>
                <a:gridCol w="1011240"/>
                <a:gridCol w="866520"/>
                <a:gridCol w="938160"/>
                <a:gridCol w="93996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AE 1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533520" y="3581280"/>
          <a:ext cx="7391160" cy="2527560"/>
        </p:xfrm>
        <a:graphic>
          <a:graphicData uri="http://schemas.openxmlformats.org/drawingml/2006/table">
            <a:tbl>
              <a:tblPr/>
              <a:tblGrid>
                <a:gridCol w="1066680"/>
                <a:gridCol w="557280"/>
                <a:gridCol w="560160"/>
                <a:gridCol w="560520"/>
                <a:gridCol w="639720"/>
                <a:gridCol w="561960"/>
                <a:gridCol w="631800"/>
                <a:gridCol w="631800"/>
                <a:gridCol w="561960"/>
                <a:gridCol w="561960"/>
                <a:gridCol w="567000"/>
                <a:gridCol w="49032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Sn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Zn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uM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nPbCu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Rectangle 1"/>
          <p:cNvSpPr/>
          <p:nvPr/>
        </p:nvSpPr>
        <p:spPr>
          <a:xfrm>
            <a:off x="276120" y="16200"/>
            <a:ext cx="72216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   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TABLE 1. Chemical composition of Journal Materials (Wt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   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TABLE 2. Chemical composition of Bearing Materials (Wt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Operating cond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aring speci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ner diameter – 10+0.05 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dth 10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uter diameter 15 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losses measured un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ubricated conditions of 20 N l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500 rpm (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ν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0.785 m/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me interval of 30 min(7065 m sliding distanc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E 90 Gear oi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Apparatus us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adial journal bearing wear test ri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crostructures of wear surfaces -optical and scanning electron microsco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ŞA type tensile test ri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dness SADT HARTIP-3000 ty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70c0"/>
                </a:solidFill>
                <a:latin typeface="Georgia"/>
              </a:rPr>
              <a:t>SADT HARDNESS TESTER HARTIP 300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TIP 3000 is an advanced hand-held digital metal hardness tester ,high   accuracy, wide measuring range  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sily operat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dness of all metals -large structure/assembled component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4" descr="F:\tribology\LLLLLLLOOOOOOOOKKKKKKKEEEEEEE\993.jpg"/>
          <p:cNvPicPr/>
          <p:nvPr/>
        </p:nvPicPr>
        <p:blipFill>
          <a:blip r:embed="rId1"/>
          <a:stretch/>
        </p:blipFill>
        <p:spPr>
          <a:xfrm>
            <a:off x="4952880" y="3886200"/>
            <a:ext cx="3981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1320" y="1527120"/>
            <a:ext cx="8504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asuring principle- the quotient of th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pact body's rebound and impact velocity, multiplied by 1000."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ungsten Carbide test tip is propelled by spring force against the test surf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permanent magnet is contained within the impact bo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it passes through the coil on impact dev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duces an electric voltage which is proportional to the velocity of the impact bod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70c0"/>
                </a:solidFill>
                <a:latin typeface="Georgia"/>
              </a:rPr>
              <a:t>SADT HARDNESS TESTER HARTIP 300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70c0"/>
                </a:solidFill>
                <a:latin typeface="Georgia"/>
              </a:rPr>
              <a:t>KEY FEATUR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st in any dire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gh accur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ight we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all metallic materi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 impact devices interchange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nu oper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ata management softwa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y to standard ASTM A95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3" descr="F:\tribology\LLLLLLLOOOOOOOOKKKKKKKEEEEEEE\productlist.asp_files\Hartip3000.jpg"/>
          <p:cNvPicPr/>
          <p:nvPr/>
        </p:nvPicPr>
        <p:blipFill>
          <a:blip r:embed="rId1"/>
          <a:stretch/>
        </p:blipFill>
        <p:spPr>
          <a:xfrm>
            <a:off x="6019920" y="1371600"/>
            <a:ext cx="2971800" cy="3048120"/>
          </a:xfrm>
          <a:prstGeom prst="rect">
            <a:avLst/>
          </a:prstGeom>
          <a:ln w="9360">
            <a:solidFill>
              <a:srgbClr val="1e1c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Radial Journal bearing wear test ri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Comparator.2. Rigid bar.3. Load contact point (rolling bearing).4. Journal sample.5. Journal bearing samples.6. Plate bar.7. Motor.8. Loa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2" name="Picture 2" descr="C:\Documents and Settings\Administrator\Desktop\fig 1.jpg"/>
          <p:cNvPicPr/>
          <p:nvPr/>
        </p:nvPicPr>
        <p:blipFill>
          <a:blip r:embed="rId1"/>
          <a:stretch/>
        </p:blipFill>
        <p:spPr>
          <a:xfrm>
            <a:off x="457200" y="3048120"/>
            <a:ext cx="7696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Radial journal bearing wear test ri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ystem formed b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ight applied by rigid b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eel bar connected to the bearing from a d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at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nsile spring connected opposite side to comparator k=0.04N/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Result and discus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b0f0"/>
                </a:solidFill>
                <a:latin typeface="Georgia"/>
              </a:rPr>
              <a:t>SURFACE ROUGHNESS PROPER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alues of CuSn10 and CuZn30 decreas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other bearings increased after wear t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Documents and Settings\Administrator\Desktop\UntitleZZZd.png"/>
          <p:cNvPicPr/>
          <p:nvPr/>
        </p:nvPicPr>
        <p:blipFill>
          <a:blip r:embed="rId1"/>
          <a:stretch/>
        </p:blipFill>
        <p:spPr>
          <a:xfrm>
            <a:off x="228600" y="2286000"/>
            <a:ext cx="8381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Wear 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9" name="Picture 2" descr="D:\TRIBOLOGYYYYYYYYYY\New Folder\rscale\fig 2 RESCALE.png"/>
          <p:cNvPicPr/>
          <p:nvPr/>
        </p:nvPicPr>
        <p:blipFill>
          <a:blip r:embed="rId1"/>
          <a:stretch/>
        </p:blipFill>
        <p:spPr>
          <a:xfrm>
            <a:off x="380880" y="1523880"/>
            <a:ext cx="7086600" cy="410364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3"/>
          <p:cNvSpPr/>
          <p:nvPr/>
        </p:nvSpPr>
        <p:spPr>
          <a:xfrm>
            <a:off x="209880" y="28440"/>
            <a:ext cx="83174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 Black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2. Friction coefficient-time variation of metal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f0"/>
                </a:solidFill>
                <a:latin typeface="Georgia"/>
              </a:rPr>
              <a:t>           </a:t>
            </a:r>
            <a:r>
              <a:rPr b="1" lang="en-US" sz="3500" spc="-1" strike="noStrike">
                <a:solidFill>
                  <a:srgbClr val="00b0f0"/>
                </a:solidFill>
                <a:latin typeface="Georgia"/>
              </a:rPr>
              <a:t>Introduction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pper , Aluminium and Lead-common journal bearing material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onze and Brass- Copper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amacs - Zinc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uralumines - Aluminium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te metals- Tin lead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sent study- Tribological and mechanical properties of these journal bearings material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D:\TRIBOLOGYYYYYYYYYY\New Folder\rscale\fig 3.png"/>
          <p:cNvPicPr/>
          <p:nvPr/>
        </p:nvPicPr>
        <p:blipFill>
          <a:blip r:embed="rId1"/>
          <a:stretch/>
        </p:blipFill>
        <p:spPr>
          <a:xfrm>
            <a:off x="380880" y="457200"/>
            <a:ext cx="4924440" cy="28576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D:\TRIBOLOGYYYYYYYYYY\New Folder\rscale\fig 4.png"/>
          <p:cNvPicPr/>
          <p:nvPr/>
        </p:nvPicPr>
        <p:blipFill>
          <a:blip r:embed="rId2"/>
          <a:stretch/>
        </p:blipFill>
        <p:spPr>
          <a:xfrm>
            <a:off x="457200" y="3733920"/>
            <a:ext cx="5133960" cy="290484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5"/>
          <p:cNvSpPr/>
          <p:nvPr/>
        </p:nvSpPr>
        <p:spPr>
          <a:xfrm>
            <a:off x="0" y="167760"/>
            <a:ext cx="8991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 Black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3. Temperature–time variation of metal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4. Wear losses bearing–time variation of metal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D:\TRIBOLOGYYYYYYYYYY\New Folder\rscale\fig 5.png"/>
          <p:cNvPicPr/>
          <p:nvPr/>
        </p:nvPicPr>
        <p:blipFill>
          <a:blip r:embed="rId1"/>
          <a:stretch/>
        </p:blipFill>
        <p:spPr>
          <a:xfrm>
            <a:off x="1219320" y="457200"/>
            <a:ext cx="4943520" cy="29336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1143000" y="3954600"/>
            <a:ext cx="5257800" cy="290340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3"/>
          <p:cNvSpPr/>
          <p:nvPr/>
        </p:nvSpPr>
        <p:spPr>
          <a:xfrm>
            <a:off x="0" y="16884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 Black"/>
                <a:ea typeface="Calibri"/>
              </a:rPr>
              <a:t>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5. Wear losses journal–time variation of metal bear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6. Comparison of wear rates of bear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Mechanical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echanical properties Bronze, Brass and Duralumin bearing materials occurred GREATER than Zamac and Tin–lead based white metal bearing material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ardness of all specimens 100 HB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9" name="Picture 2" descr="D:\TRIBOLOGYYYYYYYYYY\New Folder\Ussssssssntitled.png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Microstructure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6002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ecimens examined under optical and scanning electron microscop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D:\TRIBOLOGYYYYYYYYYY\New Folder\fig 7.png"/>
          <p:cNvPicPr/>
          <p:nvPr/>
        </p:nvPicPr>
        <p:blipFill>
          <a:blip r:embed="rId1"/>
          <a:stretch/>
        </p:blipFill>
        <p:spPr>
          <a:xfrm>
            <a:off x="380880" y="2514600"/>
            <a:ext cx="8325000" cy="289548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3"/>
          <p:cNvSpPr/>
          <p:nvPr/>
        </p:nvSpPr>
        <p:spPr>
          <a:xfrm>
            <a:off x="0" y="29520"/>
            <a:ext cx="8991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  <a:ea typeface="Calibri"/>
              </a:rPr>
              <a:t> 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7. Microstructure of wear surfaces of metal bea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(a) CuSn10, (b) CuZn30,(c) ZnAl, (d) AlCuMg2 and (e) SnPbCuSb (× 1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Bodoni MT Black"/>
              </a:rPr>
              <a:t>Figure 8. SEM microstructure of wear surface of metal bearings: (a) CuSn10, (b) CuZn30, (c) ZnAl, (d) AlCuMg2 and (e) SnPbCuSb (× 1000</a:t>
            </a:r>
            <a:r>
              <a:rPr b="0" lang="en-US" sz="1800" spc="-1" strike="noStrike">
                <a:solidFill>
                  <a:srgbClr val="00b0f0"/>
                </a:solidFill>
                <a:latin typeface="Bodoni MT Black"/>
              </a:rPr>
              <a:t>).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Content Placeholder 3" descr="D:\TRIBOLOGYYYYYYYYYY\fig 8.png"/>
          <p:cNvPicPr/>
          <p:nvPr/>
        </p:nvPicPr>
        <p:blipFill>
          <a:blip r:embed="rId1"/>
          <a:stretch/>
        </p:blipFill>
        <p:spPr>
          <a:xfrm>
            <a:off x="533520" y="1447920"/>
            <a:ext cx="746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b0f0"/>
                </a:solidFill>
                <a:latin typeface="Bodoni MT Black"/>
              </a:rPr>
              <a:t>Figure 9. SEM microstructure of tensile fracture surface of metal bearing materials: (a) CuSn10, (b) CuZn30, (c) ZnAl, (d) AlCuMg2 and (e) SnPbCuSb (× 500).</a:t>
            </a:r>
            <a:br>
              <a:rPr sz="3000"/>
            </a:b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Content Placeholder 3" descr="D:\TRIBOLOGYYYYYYYYYY\fig 9.png"/>
          <p:cNvPicPr/>
          <p:nvPr/>
        </p:nvPicPr>
        <p:blipFill>
          <a:blip r:embed="rId1"/>
          <a:stretch/>
        </p:blipFill>
        <p:spPr>
          <a:xfrm>
            <a:off x="457200" y="1371600"/>
            <a:ext cx="74674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Conclus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st wear values of surface roughness decreased in CuSn10 and CuZn30 and increased in other bearing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highest friction coefficient and bearing temperature occurred in CuSn10 and CuZn30 bearing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west friction coefficient and bearing weight loss occurred in other ZnAl, AlCuMg2 and SnPbCuSb bearing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highest journal weight loss occurred at CuZn30 and AlCuMg2 bearing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highest bearing wear rate occurred in CuSn10and CuZn30 bearing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owest bearing wear rate occurred in ZnAl bearing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mechanical properties of CuSn10, CuZn30 and AlCuMg2 bearing materials were better than those of ZnAl, and SnPbCuSb bearing material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b0f0"/>
                </a:solidFill>
                <a:latin typeface="Georgia"/>
              </a:rPr>
              <a:t>Reference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ffects of lubricants on the properties of copper-tin powders and compacts, Advances in P/M, Proc. Of PM conf., APMI, N. Jersey, pp 303–3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sign of radial journal bearing wear test rig, Conference of Mach. Mater. and Technol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uidelines for designing zinc alloy bearings— a technical manual, Soc. Auto Eng., Paper no: 88028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istory of Tribology (London: Profes. Eng. Pub.), p. 76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vestigation of Tribological properties Zn–Al based journal bearings, Master thesis, Karadeniz Technical University, Trabzon, Turkey (in Turkish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Trib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cience and technology of interacting surfaces in relative motion and of related sub and practi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als wit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chnology of lubri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ction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prevention of surfaces having relative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o main constituents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C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reases service life of machine el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Historical backgrou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rlier Wood Iron and Sk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ter Brass and Bronz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urrently Aluminium and Zinc based materia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chnological improvements Self-lubricated sintered bearings –continuous lubrication impossi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fore its essential bearing materials be chosen depending upon area of appli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resistance most important property that journal bearings materials must pos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Georgia"/>
              </a:rPr>
              <a:t>Types of journal bearing materials and their properties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PP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gh thermal and Electrical conductivity, self Lubricating property, Good corrosion and Wear res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pper based tin bronze- High wear res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ction and wear properties can be improved by adding tin-Tin Bronze (90% Cu 10% S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n Bronze- Corrosive condition, High temperature and loa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Zinc based allo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inc based alloys -world war II as compensate for copper deficiency in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ibological and mechanical properties improv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at treat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dition of Mn,Si,and C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w cost, Good Physical Tribological and mechanical properties and wear resista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Aluminium based allo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where corrosion is probl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resistance of Si added Al is greater than Al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od Castability , Thermal conductivity and weldabil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Lead and tin based allo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ti friction proper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duced by casting and spray depos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rmetallic pha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 seizure and Good wear resista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Georgia"/>
              </a:rPr>
              <a:t>Preparation of Experimental Material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91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ournal Bearing Materi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Sn10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onz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Zn30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ZnAl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ZAMA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CuMg2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uralum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PbCuSb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ite met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ft(journal)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E 105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6:03:05Z</dcterms:created>
  <dc:creator>Mechanical Engineering Project</dc:creator>
  <dc:description/>
  <dc:language>en-US</dc:language>
  <cp:lastModifiedBy>Brigade</cp:lastModifiedBy>
  <dcterms:modified xsi:type="dcterms:W3CDTF">2011-08-09T04:45:54Z</dcterms:modified>
  <cp:revision>0</cp:revision>
  <dc:subject/>
  <dc:title>Mechanical Engineering Project</dc:title>
</cp:coreProperties>
</file>